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68342466"/>
        <c:axId val="51497419"/>
      </c:barChart>
      <c:catAx>
        <c:axId val="68342466"/>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1497419"/>
        <c:crosses val="autoZero"/>
        <c:auto val="1"/>
        <c:lblAlgn val="ctr"/>
        <c:lblOffset val="100"/>
        <c:noMultiLvlLbl val="0"/>
      </c:catAx>
      <c:valAx>
        <c:axId val="51497419"/>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8342466"/>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64971-7467-4B4B-8482-C40B9453C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5CACD-EDD8-4073-8EEE-A12616DDD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AD3B7-0C5B-43E3-B9B4-78EBDA4B8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8DC3D-2204-40FF-A79B-C4BE6518B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1859E4-0207-455F-9870-D07AD8518C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4E7F7-77CB-49D4-BEBD-8A637B19D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81BAC-AED4-4779-B121-F36AA49BC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489E2-CD26-4293-A495-D586DBF8C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85861-7420-4C91-8C68-8433B8CF5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2A314-1648-445B-9A63-7C5553C97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3FB9F-1691-431C-BB1B-0B4B2C893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FAF04-C800-45A1-9D5B-1CD222CAD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EB2B2-1D1C-4871-9FE9-DDD6BB1BC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3EFB9-9A50-4DDB-BD59-9E89D1D84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B3D6A-E481-4E04-85B3-6322EA608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3C374D-0679-4D24-AC1A-6B1656447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A3810-A6A4-4756-9A94-57ED710F21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7DDB2-62A5-4995-81A1-4C2310A34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5C560-69DF-4483-B4F4-EDBCE227B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8A67B-EEBA-4516-B812-A8906B1EC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C17EF-BBBC-4AD6-A977-9D8DABDA0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2E7EE-6C9E-4C36-B63A-2993ACED4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91B77-C936-496E-B0E4-2E02A717F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90A7F-80A9-4046-B2B3-612C767B1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2AB8CE-1A6B-4010-B5B4-C7A40306664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C23578-8AC6-4234-9C31-9F0F1CC581B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